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1349F-3E7F-467A-8757-21C0F9EB4A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60BF2-CF8F-402D-9451-69CBF3380A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6C785-F03D-41C9-9312-7D39BA6B4B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58C4E-099F-4081-8784-AB436DB179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161AD-DDB3-488C-B133-15CD86DF42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AD6D7-DD6E-4366-B657-C07E81270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8FB3D-4614-44BA-B177-6C0274B1ED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BFA71-2E24-47A7-A39C-3FB1903DFB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AB86D-BC7F-4793-B66B-FA8E962F60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EC22C-E806-4660-A879-43D5915AD3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FF533-0BBC-4593-89A0-CCD3EBA3A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C75C6-27A5-4B77-AA7E-2A8C949474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0F8C6-DAEE-45C9-AFF5-10E4062C81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01344-AF79-4E58-BAAF-0B4D60476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0E2EE-3EA7-4632-9057-C1B550E748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A182C-6FF2-42D0-A064-247A4E6363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88B02-816A-4570-91A9-F44DDE2F9C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A09B1-290E-4893-B73E-11611F78D2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46E2D-1D72-4D72-833B-CE3FAAD88E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FF5F8-B977-431B-8263-08222A6CEA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3478C-50FF-447B-BDF1-80EEFD892C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B6E93-E742-4A16-BD3B-ABF4E4639B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AFAF3-DB18-4576-B63E-399C0F78DA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7D719-2FD7-48B9-A3A1-56F042021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470EC-8461-4A75-89F3-1089BE36F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4C327-4BDD-42EE-A7E1-B45158ABD8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D183B-3766-4A3B-8C16-4BA6A19A5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30CEB-772B-48DD-9784-A988EB6829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7EF2-FAC9-4307-B587-EA1A1402D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86B8-2094-4831-A4B1-93FEABF4B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8CA0-BDBA-4939-9407-9D54BCB05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6CB9-616B-43AC-92FB-B7D29864E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254B-E915-4E71-8A28-60C1664EE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E721-FAE0-49CD-A6CD-939F12C3A2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FA7C-B245-4288-8918-E6B7B07881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7795-7BB4-4C08-AC5E-BF415A4007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8798-7629-4F83-ADE2-136DBF9E3A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3A11-CA6A-46FC-A3D4-5B3305BD52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151D-FC83-4732-90D4-29C6CF4BB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DB8E-BB30-4678-9EEF-28D2CC46A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94E0-AFC6-4E52-B82D-DEE0EEA939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DC6D-4F26-4CC1-85D4-F79A259303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AADD-94AA-42AD-A1AC-47041D55E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E507-E82A-4C80-BE43-839BAF41F4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10C2-B7CE-4CD2-8134-1D9A9F05CA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B9B-80A6-419B-9CC9-02DE56F1A4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C55-BB6F-4330-A2A7-9E9929487B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DF6-DF2D-41F7-8F1F-325455BDE4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EAC-29B6-4ADC-B865-4BF6EBB552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5C4-D3D6-464E-945C-B9C60AAF2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0DC3-3F3F-4394-865D-D18180B65D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0FD-413B-4C33-9393-1BF5DBC8BD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890-9374-42D8-AD59-5ECE3C0CC5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8C0-209A-492A-93F3-325AAB2406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FF4-E3CD-4FE6-A692-FE0D52348F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0FC-A364-465C-8889-499B6151A9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177-FBC8-46AA-9F42-925794CAD5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CA3-8FED-41DB-AA16-CCD718F864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7C3DB-9AE3-43A9-802B-4824CC81FB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E64F1-0F11-400E-B246-C010E5C10E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4923A-67F1-46F2-B033-AD3C11955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08B5-63A5-4550-A0C7-BD9D2DEBCA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0A3F-E6F2-4F47-9AF6-893A107C79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8B86A-BC40-4A33-A9B8-ADF846A492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51DFD-EEF9-4DB2-A235-2F1674F049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8ED47-C1AA-42FF-98CB-C93639D979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F8D8B-8994-4476-890B-B9B19C6808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B764F-014A-4ACA-812B-4BB309B36A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35C38-17AE-424E-945F-04B3260AFE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B6CCB-16AA-41B9-A89A-F6E56B54D3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D3CDB-2CAF-4D5E-9CEC-DA74B57AFB7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B758A-E6F1-4144-A97F-C039FBF08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6F2F-17DC-45ED-A48C-E8CBDAD088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5B046-3370-40E1-931D-A725761C74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A52C6-F7CB-43B5-9D6B-27323D37AB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CD943-4910-4947-AB8A-929573302E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BCC13-39EB-47AA-9986-744E48AFB6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41C37-8C47-4006-9139-F70B2EF603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176FC-D9B5-4307-83D2-711AD213EB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049A7-6AFC-431A-96C1-5D990047C0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11EA0-8616-463A-9226-2492C5A316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A6FFB-663D-4B4F-AD0E-C7A9A5BB94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AEB78-98D6-4A7C-B774-9BA06DB1D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8BC1-94C1-428D-95E5-B88780896D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5B7B7-5679-4C3C-A19D-2979D4502F0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926D-839A-403F-B10D-0C878FA213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4F5D-6E58-4A6C-B75D-A4646A8E79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2807-A087-48D1-8EF4-33EBB36FC3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5C6B-595F-453F-9DB5-62045C2311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EC77-846E-4F3D-9CAA-BF68CA105C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2D05-A8CD-4085-B838-D456187679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A246-2D0B-48C5-8F1F-9E30CF82E00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9176-923F-4852-B572-B762224507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46A2-2302-4644-8F6C-1AFBCB5F7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4C50-F429-469D-B343-CB234A99E7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BF3D-19A9-4CCA-AAB3-808D9A67A4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7B26-CA11-4753-AFC9-7D6878858D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AEA1-8D7F-4A4A-955F-A22FF6646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AF71-D23C-4CEF-83CE-E0F248E7F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0942-1EDD-4C0D-B006-60933625D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1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5959440" y="6659640"/>
            <a:ext cx="75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671400" y="6659640"/>
            <a:ext cx="5097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1"/>
          </p:nvPr>
        </p:nvSpPr>
        <p:spPr>
          <a:xfrm>
            <a:off x="7103880" y="6659280"/>
            <a:ext cx="5634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BC3E2-4B60-4FB4-84FD-2BFBE67B31B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53" name="Line 2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5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6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1"/>
            <p:cNvSpPr/>
            <p:nvPr/>
          </p:nvSpPr>
          <p:spPr>
            <a:xfrm>
              <a:off x="-9360" y="-9360"/>
              <a:ext cx="950760" cy="627984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959440" y="6659640"/>
            <a:ext cx="75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71400" y="6659640"/>
            <a:ext cx="5097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7103880" y="6659280"/>
            <a:ext cx="5634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D5F400-E6FA-4BFE-8B52-D569D1377512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105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 Box 12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959440" y="6659640"/>
            <a:ext cx="75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71400" y="6659640"/>
            <a:ext cx="5097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3"/>
          </p:nvPr>
        </p:nvSpPr>
        <p:spPr>
          <a:xfrm>
            <a:off x="7103880" y="6659280"/>
            <a:ext cx="5634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6A0558-BCD6-4F4E-ADC2-5A4BD0942D58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159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 Box 12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5959440" y="6659640"/>
            <a:ext cx="75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71400" y="6659640"/>
            <a:ext cx="5097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7103880" y="6659280"/>
            <a:ext cx="5634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B28697-E029-4473-AB33-C1526101162A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213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5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810A5-8D1F-42A3-80B9-00E499E2EC92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265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DC8C8-573C-4DD3-B52F-63E229DEB015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44360" y="900000"/>
            <a:ext cx="88567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7b0e4"/>
                </a:solidFill>
                <a:latin typeface="Arial"/>
              </a:rPr>
              <a:t>Методы и формы сопровождения одаренных детей на уроках биологии и внеуроч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шина Наталья Владимиро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«Профильный лицей № 24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 Рубцовс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0" y="301680"/>
            <a:ext cx="85694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fcbef"/>
                </a:solidFill>
                <a:latin typeface="Trebuchet MS"/>
              </a:rPr>
              <a:t>Результаты исследовательской деятельн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093680" y="2016000"/>
            <a:ext cx="1570320" cy="2200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3456000" y="2087640"/>
            <a:ext cx="1655640" cy="2087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1152360" y="4608360"/>
            <a:ext cx="1295640" cy="1944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3456000" y="4457880"/>
            <a:ext cx="1584360" cy="2093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5"/>
          <a:stretch/>
        </p:blipFill>
        <p:spPr>
          <a:xfrm>
            <a:off x="6480000" y="2376360"/>
            <a:ext cx="288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576360" y="2619360"/>
            <a:ext cx="40384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отрудничество с МБОУ  «СОШ № 1» участие в ежегодном окружном конкурсе исследовательских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807080" y="2619360"/>
            <a:ext cx="3958920" cy="3240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360360" y="287280"/>
            <a:ext cx="871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с одаренными деть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647640" y="2054160"/>
            <a:ext cx="51847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трудничество с учреждениями дополнительного образования ЦВР «Малая Академ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360360" y="287280"/>
            <a:ext cx="6912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с одаренными деть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647640" y="4176720"/>
            <a:ext cx="2303640" cy="2592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3262320" y="4583160"/>
            <a:ext cx="1584360" cy="1778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3"/>
          <a:stretch/>
        </p:blipFill>
        <p:spPr>
          <a:xfrm>
            <a:off x="5157720" y="4356000"/>
            <a:ext cx="1168560" cy="1679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4"/>
          <a:stretch/>
        </p:blipFill>
        <p:spPr>
          <a:xfrm>
            <a:off x="6821640" y="2413080"/>
            <a:ext cx="22348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17640" y="1979640"/>
            <a:ext cx="8422920" cy="26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едметная неделя по биологии и эколог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178600" y="352728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9440" y="3527280"/>
            <a:ext cx="4103640" cy="31672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0" y="923760"/>
            <a:ext cx="82090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с одаренными деть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6"/>
          <p:cNvSpPr/>
          <p:nvPr/>
        </p:nvSpPr>
        <p:spPr>
          <a:xfrm>
            <a:off x="287280" y="39528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SimSun"/>
              </a:rPr>
              <a:t>Индивидуальная программа сопровождения школьника по подготовке к участию в предметных олимпиадах и интеллектуальных конкурс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109520" y="2951280"/>
          <a:ext cx="6121440" cy="3502080"/>
        </p:xfrm>
        <a:graphic>
          <a:graphicData uri="http://schemas.openxmlformats.org/drawingml/2006/table">
            <a:tbl>
              <a:tblPr/>
              <a:tblGrid>
                <a:gridCol w="1528920"/>
                <a:gridCol w="1530360"/>
                <a:gridCol w="1530360"/>
                <a:gridCol w="1531800"/>
              </a:tblGrid>
              <a:tr h="4352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яц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держание деятельност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лни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жида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00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ентя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биологии и эк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6254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биологии и эк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школьном этапе ВОШ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о Всесибирской окрытой олимпиаде школьник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719280" y="1547640"/>
          <a:ext cx="6626160" cy="551052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  <a:gridCol w="1749600"/>
              </a:tblGrid>
              <a:tr h="2978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оя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муниципальном этапе ВОШ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выполнению исследовательской работы по эколог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ая беседа с родителям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В, психоло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учение навыков научно-исследовательской деятельност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322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ка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биологии и эк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ая консультация по оформлению работы и презентац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ь информати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витие творческих способност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503280" y="466560"/>
          <a:ext cx="6913440" cy="687240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7280"/>
                <a:gridCol w="1730160"/>
              </a:tblGrid>
              <a:tr h="2476800"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нварь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биологии и экологи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о-педагогическое сопровождение с целью развития навыков публичного выступления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вышение самооценки, получение навыков исследовательской деятельности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20600"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враль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региональном  этапе ВОШ по экологии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окружном этапе 19 краевой олимпиады естественнонаучной направленности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75000"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нятие с психологом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краевом  этапе 19 краевой олимпиады естественнонаучной направленности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готовка к ОГЭ по биологии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В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витие коммуникативных навыков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76360" y="1619280"/>
          <a:ext cx="7127640" cy="4897440"/>
        </p:xfrm>
        <a:graphic>
          <a:graphicData uri="http://schemas.openxmlformats.org/drawingml/2006/table">
            <a:tbl>
              <a:tblPr/>
              <a:tblGrid>
                <a:gridCol w="1780920"/>
                <a:gridCol w="1783080"/>
                <a:gridCol w="1780920"/>
                <a:gridCol w="1782720"/>
              </a:tblGrid>
              <a:tr h="265752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прел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школьной научно-практической конференции «Человек. Земля. Социум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учение навыков публичного выступл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3992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о-педагогическое тестирование по профильной ориентац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пределение профиля дальнейшего обуч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" descr=""/>
          <p:cNvPicPr/>
          <p:nvPr/>
        </p:nvPicPr>
        <p:blipFill>
          <a:blip r:embed="rId1"/>
          <a:stretch/>
        </p:blipFill>
        <p:spPr>
          <a:xfrm>
            <a:off x="0" y="-963720"/>
            <a:ext cx="10080720" cy="9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360360" y="1440000"/>
            <a:ext cx="46800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аренность - это системное, развивающееся в течение жизни качество психики, которое определяет возможность достижения человеком более высоких (необычных, незаурядных) результатов в одном или нескольких видах деятельности по сравнению с другими люд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5256360" y="1440000"/>
            <a:ext cx="388764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31640" y="2035080"/>
            <a:ext cx="928872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йствие в выявлении, поддержке и развитии их таланта, их самореализации, профессиональном самоопределении, сохранении психологического и физического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21600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fcbef"/>
                </a:solidFill>
                <a:latin typeface="Trebuchet MS"/>
              </a:rPr>
              <a:t>Педагогическое сопровождение одаренных дет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0328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3840"/>
                <a:tab algn="l" pos="627120"/>
                <a:tab algn="l" pos="1130400"/>
                <a:tab algn="l" pos="1633680"/>
                <a:tab algn="l" pos="2136600"/>
                <a:tab algn="l" pos="2639880"/>
                <a:tab algn="l" pos="3143160"/>
                <a:tab algn="l" pos="3646440"/>
                <a:tab algn="l" pos="4149720"/>
                <a:tab algn="l" pos="4653000"/>
                <a:tab algn="l" pos="5156280"/>
                <a:tab algn="l" pos="5659560"/>
                <a:tab algn="l" pos="6162840"/>
                <a:tab algn="l" pos="6665760"/>
                <a:tab algn="l" pos="7169040"/>
                <a:tab algn="l" pos="7672320"/>
                <a:tab algn="l" pos="8175600"/>
                <a:tab algn="l" pos="8678880"/>
                <a:tab algn="l" pos="9182160"/>
                <a:tab algn="l" pos="9685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3000"/>
              </a:lnSpc>
              <a:spcBef>
                <a:spcPts val="1100"/>
              </a:spcBef>
              <a:tabLst>
                <a:tab algn="l" pos="0"/>
                <a:tab algn="l" pos="123840"/>
                <a:tab algn="l" pos="627120"/>
                <a:tab algn="l" pos="1130400"/>
                <a:tab algn="l" pos="1633680"/>
                <a:tab algn="l" pos="2136600"/>
                <a:tab algn="l" pos="2639880"/>
                <a:tab algn="l" pos="3143160"/>
                <a:tab algn="l" pos="3646440"/>
                <a:tab algn="l" pos="4149720"/>
                <a:tab algn="l" pos="4653000"/>
                <a:tab algn="l" pos="5156280"/>
                <a:tab algn="l" pos="5659560"/>
                <a:tab algn="l" pos="6162840"/>
                <a:tab algn="l" pos="6665760"/>
                <a:tab algn="l" pos="7169040"/>
                <a:tab algn="l" pos="7672320"/>
                <a:tab algn="l" pos="8175600"/>
                <a:tab algn="l" pos="8678880"/>
                <a:tab algn="l" pos="9182160"/>
                <a:tab algn="l" pos="9685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03280" y="4452840"/>
            <a:ext cx="90709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явление одаренных уче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оптимального развития одаренных детей, чья одаренность на данный момент может быть еще не проявившейся, а также просто способны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5975280" y="3516480"/>
            <a:ext cx="254628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Этапы выявления одаренных дет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720720" y="1474920"/>
            <a:ext cx="842328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I этап (в рамках урок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31640" y="2050920"/>
            <a:ext cx="9072720" cy="66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Методы рабо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облемны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ично - поисковы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4630680" y="3117960"/>
            <a:ext cx="3805200" cy="3195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936720" y="4716360"/>
            <a:ext cx="317340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503280" y="1728720"/>
            <a:ext cx="9072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II этап (внеурочные формы работы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 ребенка появляется возможность в полную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илу проявить себя, раскрыть свои талан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503280" y="3600360"/>
            <a:ext cx="4824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II этап (заключительный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абота с узким кругом учеников, которые проявили свои способности и заинтересовались предмет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576360"/>
            <a:ext cx="921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Этапы выявления одаренных дет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5400720" y="4102200"/>
            <a:ext cx="317340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287280" y="650880"/>
            <a:ext cx="813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Формы работы с одаренными деть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287280" y="1728720"/>
            <a:ext cx="84250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чебно-тренировочные занятия для учащихся 7-11 классов, готовящихся к предметным олимпиадам, конкурса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541440" y="3456000"/>
            <a:ext cx="3959280" cy="3456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5111640" y="345600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Результаты участия во </a:t>
            </a:r>
            <a:br>
              <a:rPr sz="3200"/>
            </a:br>
            <a:r>
              <a:rPr b="1" i="1" lang="ru-RU" sz="32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Всероссийской олимпиаде по биологии и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216000" y="2232000"/>
            <a:ext cx="864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2 победителя, 4 приз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7-2018 уч. г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3 победителя, 5 призе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егиональном этапе по эк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сыгина Анастасия (9 класс) победи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7 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2735280" y="4896000"/>
            <a:ext cx="37432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431640" y="2376360"/>
            <a:ext cx="460872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учащихся 5-6 классов в соответствии с требованиями ФГОС работа с одаренными и способными учащимися состоит в организации внеурочной деятельности по программе «Я — исследовател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183280" y="2376360"/>
            <a:ext cx="2952720" cy="3672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3"/>
          <p:cNvSpPr/>
          <p:nvPr/>
        </p:nvSpPr>
        <p:spPr>
          <a:xfrm>
            <a:off x="-289080" y="82692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с одаренными деть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503280" y="2498760"/>
            <a:ext cx="43196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учащихся 7-11 классов организация научно - исследовательской деятельности и работа в школьном НОУ «Кванту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-431640" y="82692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с одаренными деть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4608360" y="240192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0T13:04:37Z</dcterms:created>
  <dc:creator/>
  <dc:description/>
  <dc:language>en-US</dc:language>
  <cp:lastModifiedBy>teacher</cp:lastModifiedBy>
  <dcterms:modified xsi:type="dcterms:W3CDTF">2017-12-22T03:48:46Z</dcterms:modified>
  <cp:revision>13</cp:revision>
  <dc:subject/>
  <dc:title>Презентация PowerPoint</dc:title>
</cp:coreProperties>
</file>